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819-83E2-4C6E-B12D-ABB0E856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4E0-3EF2-4DB5-8B24-856A706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9D3-EFA0-4249-AA11-3C2658B2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F25-FD6B-491D-9BB6-7F38B981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BD2-B295-4E6D-82E5-3D50A410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311-C588-43FA-9E21-7325322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8BE-94E5-4028-9E18-C9F3B76A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E9-AD66-4455-834F-8DA5F7A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91B-5149-4246-BCA4-A9C16E0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C43-BB8F-4987-8F2A-F84E71C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129-DDD8-40EE-9716-CB39E31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A13-60E6-49CA-A1F8-476061EF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D76-2019-476C-94BD-FADCA86B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 Zo srdca hĺbky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rdca hĺb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spievam chvály žal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 požehn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enne prijím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Bože, Kráľu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 piesňou plnou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vzniesť až nad obla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ld zložiť pred tró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si ma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sprevád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tia kríž môj ťažk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niesť mi pomá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ôj čuješ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zbaviť hriechu, vi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Bože troj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š duši mier 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, Pane, pra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života vždy zr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y tvojej plam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očistí, to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 víťazstvu ma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rdce verné, smel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e patrí celé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ôjho žitia str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5:50Z</dcterms:modified>
  <cp:revision>14</cp:revision>
  <dc:subject/>
  <dc:title>Je veľký náš Pán, on slávy je Kráľ Nech do všetkých strán  spev vrúcnych znie chvál.</dc:title>
</cp:coreProperties>
</file>